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0B26AF-4FE1-4E66-857F-5A1FDD5CE81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2FB6DB-5B2B-4B6E-B8E9-DC9A89C363E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66200" y="985320"/>
            <a:ext cx="813276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E77986-6E01-4C85-88E6-774EF9AA6FE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59DA2F-6F90-4411-840B-1B525B333DB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DF338C-02A7-4165-94B8-9AFF0494837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F67271-0037-460B-B703-146CDD27FF0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8A992A-2E0B-40AA-8848-1A6CB28C360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05F8CC-34C0-4485-A3B2-7FC29928A50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1624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96628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620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1624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96628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48C813-DACB-4191-A2E0-1678AF85704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7A82F-F6C1-4D0D-805B-81C53E5EC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0E66D-C930-4A41-A1A1-079E93AA9A6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69F16-B159-4C40-91F5-0734DC6B267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C40B9-1861-4078-9466-50BCF379E02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59ADA-1401-4B26-90A7-5AA89479217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66200" y="985320"/>
            <a:ext cx="813276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00E45-8656-4663-95A3-9FF61362617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3C98B-C822-4602-A3D3-35D469C6522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CB326-C3F5-4B0A-98D4-645868F92A3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B54CB-52E6-4DBB-A0D0-173F1A08F64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12E8F-871D-420A-B5F0-734F96C1378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3EA26-91FB-4744-8C93-6DBEC5A3E1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624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6628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20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624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6628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1624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6628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620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1624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6628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671E6-9FBF-4E6F-8D13-B17624354AD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CD8D48-62F0-43D2-861E-129ED98B50C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1253D2-E994-4F32-AFAD-3C9F486D831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2B0F74-6B6B-4B50-B438-2B2D77DD070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82EE35-DED9-4D00-8EF2-5C4FD8B2079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8CD6FD-7148-4B47-96D5-9600249FDF4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66200" y="985320"/>
            <a:ext cx="813276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94D386-EE5B-4EE2-AA6B-DCA74A3DBBA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B01C3D-17BE-41E6-B03A-4B184391C82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66C72D-8085-4352-BF5B-1E7BCEC177C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40D0CB-D8C1-4B70-B996-56750F4E8A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6832E-95AC-406B-890D-EF133BB14B8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3EF565-801E-4766-A8BA-8D758D84541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E64DC1-A397-436B-A239-247859E362E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1624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96628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620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1624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596628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B6E09F-BED5-4979-BA1A-55975FF2D6D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10680D-FC08-4945-B49E-1256D1F6DF8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287771-7EC8-423C-969C-E76DDFFFD6D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C46702-791A-4C93-9952-18B97901175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AD3A15-216D-43A4-B76D-B25D768A8F3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592439-A70E-41E1-8613-985CB83B36E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66200" y="985320"/>
            <a:ext cx="813276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0D6FCD-17C5-496B-B24B-E8B132D9C91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46CFF7-7A3B-43FE-AA87-EE6CD08AE7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DC399-4B0A-41BE-AD86-2036FEC486E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E4C9CF-623F-4C03-B0AB-6C157D3F8F3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CF782A-876D-43FC-BE89-4A645829116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B9C3E7-47CD-4B0E-811C-0C46CD3914A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9B37AF-7B67-4FF9-8355-23DF9086271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1624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96628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620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1624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96628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6D0A88-2BA6-45B9-8E11-6A9E857C4B3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BDA06-77EE-4E90-9292-97A5E046186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B8775-3760-44DA-9F17-1A207866750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8B776-FEC6-45FE-82B8-512303B3029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D6DD9-BB3C-4FFC-8CCC-6296179E396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A554E-0D44-42BE-972B-AEF3708C88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30888-7C53-4C5E-9C44-5D914558D18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66200" y="985320"/>
            <a:ext cx="813276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54F73-4271-4E01-AE23-A86166168C2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F78AD-F94A-4843-B9CD-5395DCDC4A4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5F4C4-FFCD-43A4-A1E2-E0AFBA6BD15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4AA3F-7F4F-4B8B-B562-00E114218E3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23819-711D-47BA-81B6-A82357DFBBE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F99E8-9D5F-4ADC-A9F9-9D6D57B5B89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1624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96628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620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1624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596628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2BD33-136F-4AE0-817E-3E7E653C007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527542-590D-4765-8248-A5AF76DDF16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244FB3-70C4-45DB-8507-E7F0AAFBDB0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E666B8-9DA7-472D-BA92-A8EE713663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04775-BF07-4400-83D8-4EA180BEBDA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15C6EC-B730-4125-813C-30957C3DA406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F361DA-24BA-4B54-AECC-EFA517E2B91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66200" y="985320"/>
            <a:ext cx="813276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328F3A-837A-458D-9C17-14A97E017B4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255FAF-2A62-4824-8271-A5BC48403F3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808F14-84A1-42A8-9769-25536725A11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E1BEFB-DCF8-47A4-A04A-59A4BF1B0D8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9B94A8-6526-4CDF-A6F8-B6FDEF2E0B2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B67F0A-898F-4417-A037-7F0E3EE00D1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1624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96628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620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1624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596628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E93D9F-B8B2-4C31-8579-CB146118FAA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2AB097-0ECE-45C7-B96B-B08504B6AE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3734D-ED42-4B00-B7F9-D0948E695DB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DB2FDB-0B7B-4DF8-A26C-3435E2DEE4E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D2225F-7BCF-4FEB-8CD4-0797E712D1F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AB15A7-CEB8-4002-97EC-43BAD55F509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C99310-0016-4441-8930-1AA3F6F2BF7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66200" y="985320"/>
            <a:ext cx="813276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C3EDB8-5070-47E7-9C2E-BC8586DF8CD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CE6BA8-0162-49B9-A250-C0D5EF1D10B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A908DF-E5C6-447F-978B-8BE5F7BAED7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17989F-4841-4033-B661-1A5197894A9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11FDA0-23E1-4484-AACE-2F90B1BB738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6EC3D2-587A-4389-B3EF-C4BA885A3A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66200" y="985320"/>
            <a:ext cx="813276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A8A62-E25E-43C5-A629-FDAD3A4380D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1624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96628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620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1624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596628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5ED495-2199-4C57-9840-AF6943D49B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A27B4-FB71-4BB8-880A-B427097863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3B721-48C7-4038-9913-6ADD10C6C1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3E612-C39F-48DF-B08D-D75402405C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35495-EFFE-4752-9ADC-C6AC45E928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BAD75-C3A8-4661-80E3-D26AB9F9B7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1624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628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20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1624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6628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C78F6-50FD-49BC-996B-1D62E1D3CE3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D9D01-CA12-42FA-A03A-CB12785E99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61DD4-DCF3-4439-9A45-D7010148D4C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618CE-39F4-4248-9E4A-14520BCA42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AA56E-F672-455D-8B91-6DFAAEB2B96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F626F-A35C-473A-95D7-5E8CEA3958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66200" y="985320"/>
            <a:ext cx="813276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7BFDE-A2A1-4FC0-A127-3AA235F406A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446C3-1849-4094-9FB0-60A06F3BD7F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0CAE1-7BD2-4955-9B4B-6953E9D7455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BC784-E2E8-4493-A8F6-082FF86BBFF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ABFCB-25AB-4D1B-8669-FE8157A077E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AEFAD-A8D3-4CA9-BAB6-8E309B1D59F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1624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6628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20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1624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6628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48BB7-7FEF-4860-B091-F703E58C2D7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F1DF-0ECD-4C98-9F4F-BCCF0A6DAA7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8369-33DE-4B81-B243-FBD1DE4CC24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0518-BD3E-453E-8953-FBF5CD329D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0DB8-F4EF-4031-BB95-5F30A99EFEA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032E-E805-4B3E-8340-381E6B6EF55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66200" y="985320"/>
            <a:ext cx="813276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5F15-C297-4BF5-944A-C15F8D05F18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BBDD-C86C-44C0-8E5E-B933035985C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5763-496B-4E16-819C-AC856148D59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8553-A736-4FFD-A5C3-B68FE467518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75A8-E33B-42EF-B341-7CE67C4EB67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5582-0E28-4C01-A83D-6E1A115B689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1624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6628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20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1624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6628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B45A-5C68-46AE-92E2-2A304A01777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EBC8C7-9FEE-49A6-B46A-671138CD4B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1E013-0542-4145-9387-3EF84E89E7A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80FB1-7141-4AF8-AEA3-17F9635FAA9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471F3-54EA-4604-9AEF-F2CE38E9076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68523-2E47-4DF5-B89A-9B4074405BC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66200" y="985320"/>
            <a:ext cx="813276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880AB-EFA9-48E3-8190-D3A9B1CD664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879AE-81F8-42A4-A0BA-D550E7D216F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90872-6A04-4D7E-A718-121D5841A08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8F305-CFB0-4306-9C4D-FA893EFB63C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F5C31-73D5-4DFF-A5A2-B21BA2B5EE5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6447A-C43D-4E6F-A4F0-4252594542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6200" y="985320"/>
            <a:ext cx="813276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1624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628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20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1624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628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00F03-1B1A-490D-92A3-32B57D849FD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65F79-53D4-4E3E-A23A-74890014823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1DB05-BC7C-4071-AB40-C39B47FDA97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797F9-20ED-4E87-8170-D77747670F5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B4778-2B12-401E-8B8F-99E6223F6A0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299BC-8AA8-4D68-A63D-0F1BCC8A6C3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66200" y="985320"/>
            <a:ext cx="813276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E6DA2-69AB-49C6-A57C-7F6251C8860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6BBD2-AFF5-4096-924F-71FCE5F2728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FDE28-7A03-4FDA-B1A1-2C6D5E00A14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68B5C-2F38-4992-80E4-304BFD1AE0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35250-4060-4EFC-B708-34360EBCF15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06D50-C2D8-4FF7-92D9-2A22FC2B44E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1624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6628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620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1624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6628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25E00-C244-472C-8ECF-C54E2183A77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23F5-582F-45F5-B752-5A43602F9DD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47A5-75D0-49E9-8703-FE3A5B74879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F3EC-52BA-4931-B19B-E6B206AD463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5302-A27D-49F8-BDE5-65F06B048EA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8E6C-DA7D-4184-B2C3-D430EF59BEC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66200" y="985320"/>
            <a:ext cx="813276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7650-BEC1-416E-B4FC-614DE5B6EEA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FC80-74B3-4AE2-B81B-367B351E5C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1ACA-F452-423D-A39F-DFCFCCE0BF7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312F-0937-42D1-8CD6-3B883D617E3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72D9-029E-4A4D-A7A4-25794566801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D6E9-7EDB-4C27-A126-5AAB1934DDB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1624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96628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620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1624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596628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446C-6A81-4BFB-A443-65E9EED7437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D52B18-E316-4FEE-9189-9997E4320B1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8EA9AC-2DC0-433C-97A7-A2F0DA30075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73F427-5C41-4763-B895-010577CE06E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41AA85-EBDF-4E9C-BA9E-6E75F63AA09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D5BA91-F230-42B3-8B3E-BCF319489F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66200" y="985320"/>
            <a:ext cx="8132760" cy="53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05AB9D-DF2C-4FF5-916A-C0CDB5A8F49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2F1A91-3E33-49CD-A87F-4CD464A4076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AC9432-7159-48E5-AF2F-F5D5C209FEE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B1BC04-0C02-4F79-ACFC-FA02BA8C06F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200" y="4601160"/>
            <a:ext cx="813276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4C7148-24FE-473B-9707-BF1C114667D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33560" y="21333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620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33560" y="4601160"/>
            <a:ext cx="396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633C49-EC63-4509-B104-C7DA73DD6CC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1624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66280" y="21333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620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1624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966280" y="4601160"/>
            <a:ext cx="2618640" cy="22532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562441-8C51-4CD7-9C2B-25BA30C7875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676680-61A4-481B-881A-41A8EF820D3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A9B33F-5124-4477-B428-49F4F45CD67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BF8AA9-0400-4DF4-B807-19B3767D8A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kkura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1" marL="731880" indent="-28584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2" marL="11318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3" marL="15890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4" marL="20462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5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6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" descr=""/>
          <p:cNvPicPr/>
          <p:nvPr/>
        </p:nvPicPr>
        <p:blipFill>
          <a:blip r:embed="rId2"/>
          <a:stretch/>
        </p:blipFill>
        <p:spPr>
          <a:xfrm>
            <a:off x="468360" y="334800"/>
            <a:ext cx="3024000" cy="549360"/>
          </a:xfrm>
          <a:prstGeom prst="rect">
            <a:avLst/>
          </a:prstGeom>
          <a:ln w="0">
            <a:noFill/>
          </a:ln>
        </p:spPr>
      </p:pic>
      <p:sp>
        <p:nvSpPr>
          <p:cNvPr id="378" name="Line 2"/>
          <p:cNvSpPr/>
          <p:nvPr/>
        </p:nvSpPr>
        <p:spPr>
          <a:xfrm>
            <a:off x="503280" y="1065240"/>
            <a:ext cx="813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"/>
          <p:cNvSpPr/>
          <p:nvPr/>
        </p:nvSpPr>
        <p:spPr>
          <a:xfrm>
            <a:off x="4789440" y="419040"/>
            <a:ext cx="38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Experimentelle Physik V</a:t>
            </a: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 /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Fakultät Physi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Num" idx="9"/>
          </p:nvPr>
        </p:nvSpPr>
        <p:spPr>
          <a:xfrm>
            <a:off x="7959240" y="6324480"/>
            <a:ext cx="1573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BA35-9133-4974-A35A-B6A6325C9A6C}" type="slidenum">
              <a: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617400" y="6475320"/>
            <a:ext cx="46879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Wolfgang Rhode | Intertwining Theory and Observational Evidenc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Contemporary Cosmology, Wuppertal | 14.2.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kkura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body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1" marL="731880" indent="-28584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2" marL="11318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3" marL="15890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4" marL="20462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5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6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" descr=""/>
          <p:cNvPicPr/>
          <p:nvPr/>
        </p:nvPicPr>
        <p:blipFill>
          <a:blip r:embed="rId2"/>
          <a:stretch/>
        </p:blipFill>
        <p:spPr>
          <a:xfrm>
            <a:off x="468360" y="334800"/>
            <a:ext cx="3024000" cy="549360"/>
          </a:xfrm>
          <a:prstGeom prst="rect">
            <a:avLst/>
          </a:prstGeom>
          <a:ln w="0">
            <a:noFill/>
          </a:ln>
        </p:spPr>
      </p:pic>
      <p:sp>
        <p:nvSpPr>
          <p:cNvPr id="421" name="Line 2"/>
          <p:cNvSpPr/>
          <p:nvPr/>
        </p:nvSpPr>
        <p:spPr>
          <a:xfrm>
            <a:off x="503280" y="1065240"/>
            <a:ext cx="813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4789440" y="419040"/>
            <a:ext cx="38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Experimentelle Physik V</a:t>
            </a: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 /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Fakultät Physi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Num" idx="10"/>
          </p:nvPr>
        </p:nvSpPr>
        <p:spPr>
          <a:xfrm>
            <a:off x="7959240" y="6324480"/>
            <a:ext cx="1573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60C5-074A-49AC-805D-3145F0B499DE}" type="slidenum">
              <a: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617400" y="6475320"/>
            <a:ext cx="46879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Wolfgang Rhode | Intertwining Theory and Observational Evidenc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Contemporary Cosmology, Wuppertal | 14.2.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kkura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body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1" marL="731880" indent="-28584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2" marL="11318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3" marL="15890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4" marL="20462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5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6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1" descr=""/>
          <p:cNvPicPr/>
          <p:nvPr/>
        </p:nvPicPr>
        <p:blipFill>
          <a:blip r:embed="rId2"/>
          <a:stretch/>
        </p:blipFill>
        <p:spPr>
          <a:xfrm>
            <a:off x="468360" y="334800"/>
            <a:ext cx="3024000" cy="549360"/>
          </a:xfrm>
          <a:prstGeom prst="rect">
            <a:avLst/>
          </a:prstGeom>
          <a:ln w="0">
            <a:noFill/>
          </a:ln>
        </p:spPr>
      </p:pic>
      <p:sp>
        <p:nvSpPr>
          <p:cNvPr id="464" name="Line 2"/>
          <p:cNvSpPr/>
          <p:nvPr/>
        </p:nvSpPr>
        <p:spPr>
          <a:xfrm>
            <a:off x="503280" y="1065240"/>
            <a:ext cx="813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4789440" y="419040"/>
            <a:ext cx="38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Experimentelle Physik V</a:t>
            </a: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 /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Fakultät Physi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Num" idx="11"/>
          </p:nvPr>
        </p:nvSpPr>
        <p:spPr>
          <a:xfrm>
            <a:off x="7959240" y="6324480"/>
            <a:ext cx="1573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249E-ED36-4CE3-9617-AEE5986B888B}" type="slidenum">
              <a: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617400" y="6475320"/>
            <a:ext cx="46879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Wolfgang Rhode | Intertwining Theory and Observational Evidenc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Contemporary Cosmology, Wuppertal | 14.2.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kkura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body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1" marL="731880" indent="-28584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2" marL="11318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3" marL="15890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4" marL="20462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5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6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" descr=""/>
          <p:cNvPicPr/>
          <p:nvPr/>
        </p:nvPicPr>
        <p:blipFill>
          <a:blip r:embed="rId2"/>
          <a:stretch/>
        </p:blipFill>
        <p:spPr>
          <a:xfrm>
            <a:off x="468360" y="334800"/>
            <a:ext cx="3024000" cy="549360"/>
          </a:xfrm>
          <a:prstGeom prst="rect">
            <a:avLst/>
          </a:prstGeom>
          <a:ln w="0">
            <a:noFill/>
          </a:ln>
        </p:spPr>
      </p:pic>
      <p:sp>
        <p:nvSpPr>
          <p:cNvPr id="507" name="Line 2"/>
          <p:cNvSpPr/>
          <p:nvPr/>
        </p:nvSpPr>
        <p:spPr>
          <a:xfrm>
            <a:off x="503280" y="1065240"/>
            <a:ext cx="813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4789440" y="419040"/>
            <a:ext cx="38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Experimentelle Physik V</a:t>
            </a: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 /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Fakultät Physi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Num" idx="12"/>
          </p:nvPr>
        </p:nvSpPr>
        <p:spPr>
          <a:xfrm>
            <a:off x="7959240" y="6324480"/>
            <a:ext cx="1573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69F0-F0FC-402E-9AF7-8EA2CB29967B}" type="slidenum">
              <a: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kkura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body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1" marL="731880" indent="-28584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2" marL="11318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3" marL="15890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4" marL="20462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5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6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1" descr=""/>
          <p:cNvPicPr/>
          <p:nvPr/>
        </p:nvPicPr>
        <p:blipFill>
          <a:blip r:embed="rId2"/>
          <a:stretch/>
        </p:blipFill>
        <p:spPr>
          <a:xfrm>
            <a:off x="468360" y="334800"/>
            <a:ext cx="3024000" cy="549360"/>
          </a:xfrm>
          <a:prstGeom prst="rect">
            <a:avLst/>
          </a:prstGeom>
          <a:ln w="0">
            <a:noFill/>
          </a:ln>
        </p:spPr>
      </p:pic>
      <p:sp>
        <p:nvSpPr>
          <p:cNvPr id="549" name="Line 2"/>
          <p:cNvSpPr/>
          <p:nvPr/>
        </p:nvSpPr>
        <p:spPr>
          <a:xfrm>
            <a:off x="503280" y="1065240"/>
            <a:ext cx="813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4789440" y="419040"/>
            <a:ext cx="38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Experimentelle Physik V</a:t>
            </a: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 /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Fakultät Physi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Num" idx="13"/>
          </p:nvPr>
        </p:nvSpPr>
        <p:spPr>
          <a:xfrm>
            <a:off x="7959240" y="6324480"/>
            <a:ext cx="1573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DC1D-9150-4BB8-B41B-E313D5B851E4}" type="slidenum">
              <a: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kkura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body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1" marL="731880" indent="-28584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2" marL="11318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3" marL="15890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4" marL="20462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5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6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1" descr=""/>
          <p:cNvPicPr/>
          <p:nvPr/>
        </p:nvPicPr>
        <p:blipFill>
          <a:blip r:embed="rId2"/>
          <a:stretch/>
        </p:blipFill>
        <p:spPr>
          <a:xfrm>
            <a:off x="468360" y="334800"/>
            <a:ext cx="3024000" cy="549360"/>
          </a:xfrm>
          <a:prstGeom prst="rect">
            <a:avLst/>
          </a:prstGeom>
          <a:ln w="0">
            <a:noFill/>
          </a:ln>
        </p:spPr>
      </p:pic>
      <p:sp>
        <p:nvSpPr>
          <p:cNvPr id="591" name="Line 2"/>
          <p:cNvSpPr/>
          <p:nvPr/>
        </p:nvSpPr>
        <p:spPr>
          <a:xfrm>
            <a:off x="503280" y="1065240"/>
            <a:ext cx="813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3"/>
          <p:cNvSpPr/>
          <p:nvPr/>
        </p:nvSpPr>
        <p:spPr>
          <a:xfrm>
            <a:off x="4789440" y="419040"/>
            <a:ext cx="38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Experimentelle Physik V</a:t>
            </a: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 /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Fakultät Physi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Num" idx="14"/>
          </p:nvPr>
        </p:nvSpPr>
        <p:spPr>
          <a:xfrm>
            <a:off x="7959240" y="6324480"/>
            <a:ext cx="1573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68FA-D8AE-46F8-A72E-739054DF874E}" type="slidenum">
              <a: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kkura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body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1" marL="731880" indent="-28584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2" marL="11318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3" marL="15890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4" marL="20462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5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6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kkura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66200" y="213336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1" marL="731880" indent="-28584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2" marL="11318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3" marL="15890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4" marL="20462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5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6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40" name="Line 3"/>
          <p:cNvSpPr/>
          <p:nvPr/>
        </p:nvSpPr>
        <p:spPr>
          <a:xfrm>
            <a:off x="503280" y="1065240"/>
            <a:ext cx="813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1"/>
          </p:nvPr>
        </p:nvSpPr>
        <p:spPr>
          <a:xfrm>
            <a:off x="7959240" y="6324480"/>
            <a:ext cx="1573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0EC6-2A2B-4888-8F11-A483A18B4FBC}" type="slidenum">
              <a: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Line 1"/>
          <p:cNvSpPr/>
          <p:nvPr/>
        </p:nvSpPr>
        <p:spPr>
          <a:xfrm>
            <a:off x="503280" y="1065240"/>
            <a:ext cx="813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Num" idx="2"/>
          </p:nvPr>
        </p:nvSpPr>
        <p:spPr>
          <a:xfrm>
            <a:off x="7959240" y="6324480"/>
            <a:ext cx="1573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A1C8-31B7-4F93-B359-87DC1FEE492F}" type="slidenum">
              <a: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51000" y="6348240"/>
            <a:ext cx="468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Wolfgang Rhode | Michael Gilde Dortmund | 3.2.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kkura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body"/>
          </p:nvPr>
        </p:nvSpPr>
        <p:spPr>
          <a:xfrm>
            <a:off x="471240" y="2133360"/>
            <a:ext cx="812772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1" marL="731880" indent="-28584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2" marL="11318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3" marL="15890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4" marL="20462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5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6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" descr=""/>
          <p:cNvPicPr/>
          <p:nvPr/>
        </p:nvPicPr>
        <p:blipFill>
          <a:blip r:embed="rId2"/>
          <a:stretch/>
        </p:blipFill>
        <p:spPr>
          <a:xfrm>
            <a:off x="468360" y="334800"/>
            <a:ext cx="3024000" cy="549360"/>
          </a:xfrm>
          <a:prstGeom prst="rect">
            <a:avLst/>
          </a:prstGeom>
          <a:ln w="0">
            <a:noFill/>
          </a:ln>
        </p:spPr>
      </p:pic>
      <p:sp>
        <p:nvSpPr>
          <p:cNvPr id="120" name="Line 2"/>
          <p:cNvSpPr/>
          <p:nvPr/>
        </p:nvSpPr>
        <p:spPr>
          <a:xfrm>
            <a:off x="503280" y="1065240"/>
            <a:ext cx="813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4789440" y="419040"/>
            <a:ext cx="38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Experimentelle Physik V</a:t>
            </a: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 /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Fakultät Physi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Num" idx="3"/>
          </p:nvPr>
        </p:nvSpPr>
        <p:spPr>
          <a:xfrm>
            <a:off x="7959240" y="6324480"/>
            <a:ext cx="1573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9B71-9998-4CA1-BCF1-008727179299}" type="slidenum">
              <a: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617400" y="6475320"/>
            <a:ext cx="46879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Wolfgang Rhode | Michael Gilde Dortmund | 3.2.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kkura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71240" y="2133360"/>
            <a:ext cx="812772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1" marL="731880" indent="-28584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2" marL="11318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3" marL="15890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4" marL="20462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5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6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2"/>
          <a:stretch/>
        </p:blipFill>
        <p:spPr>
          <a:xfrm>
            <a:off x="468360" y="334800"/>
            <a:ext cx="3024000" cy="549360"/>
          </a:xfrm>
          <a:prstGeom prst="rect">
            <a:avLst/>
          </a:prstGeom>
          <a:ln w="0">
            <a:noFill/>
          </a:ln>
        </p:spPr>
      </p:pic>
      <p:sp>
        <p:nvSpPr>
          <p:cNvPr id="163" name="Line 2"/>
          <p:cNvSpPr/>
          <p:nvPr/>
        </p:nvSpPr>
        <p:spPr>
          <a:xfrm>
            <a:off x="503280" y="1065240"/>
            <a:ext cx="813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4789440" y="419040"/>
            <a:ext cx="38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Experimentelle Physik V</a:t>
            </a: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 /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Fakultät Physi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Num" idx="4"/>
          </p:nvPr>
        </p:nvSpPr>
        <p:spPr>
          <a:xfrm>
            <a:off x="7959240" y="6324480"/>
            <a:ext cx="1573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67EC-D0FB-48B4-A5D4-78FFD27541EE}" type="slidenum">
              <a: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617400" y="6475320"/>
            <a:ext cx="46879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Wolfgang Rhode | Michael Gilde Dortmund | 3.2.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kkura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body"/>
          </p:nvPr>
        </p:nvSpPr>
        <p:spPr>
          <a:xfrm>
            <a:off x="471240" y="2133360"/>
            <a:ext cx="812772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1" marL="731880" indent="-28584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2" marL="11318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3" marL="15890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4" marL="20462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5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6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"/>
          <p:cNvPicPr/>
          <p:nvPr/>
        </p:nvPicPr>
        <p:blipFill>
          <a:blip r:embed="rId2"/>
          <a:stretch/>
        </p:blipFill>
        <p:spPr>
          <a:xfrm>
            <a:off x="468360" y="334800"/>
            <a:ext cx="3024000" cy="549360"/>
          </a:xfrm>
          <a:prstGeom prst="rect">
            <a:avLst/>
          </a:prstGeom>
          <a:ln w="0">
            <a:noFill/>
          </a:ln>
        </p:spPr>
      </p:pic>
      <p:sp>
        <p:nvSpPr>
          <p:cNvPr id="206" name="Line 2"/>
          <p:cNvSpPr/>
          <p:nvPr/>
        </p:nvSpPr>
        <p:spPr>
          <a:xfrm>
            <a:off x="503280" y="1065240"/>
            <a:ext cx="813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4789440" y="419040"/>
            <a:ext cx="38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Experimentelle Physik V</a:t>
            </a: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 /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Fakultät Physi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Num" idx="5"/>
          </p:nvPr>
        </p:nvSpPr>
        <p:spPr>
          <a:xfrm>
            <a:off x="7959240" y="6324480"/>
            <a:ext cx="1573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2A3B-7022-4B86-B94B-CEECA002C2E8}" type="slidenum">
              <a: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617400" y="6475320"/>
            <a:ext cx="46879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Wolfgang Rhode | Michael Gilde Dortmund | 3.2.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kkura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body"/>
          </p:nvPr>
        </p:nvSpPr>
        <p:spPr>
          <a:xfrm>
            <a:off x="471240" y="2133360"/>
            <a:ext cx="812772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1" marL="731880" indent="-28584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2" marL="11318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3" marL="15890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4" marL="20462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5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6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" descr=""/>
          <p:cNvPicPr/>
          <p:nvPr/>
        </p:nvPicPr>
        <p:blipFill>
          <a:blip r:embed="rId2"/>
          <a:stretch/>
        </p:blipFill>
        <p:spPr>
          <a:xfrm>
            <a:off x="468360" y="334800"/>
            <a:ext cx="3024000" cy="549360"/>
          </a:xfrm>
          <a:prstGeom prst="rect">
            <a:avLst/>
          </a:prstGeom>
          <a:ln w="0">
            <a:noFill/>
          </a:ln>
        </p:spPr>
      </p:pic>
      <p:sp>
        <p:nvSpPr>
          <p:cNvPr id="249" name="Line 2"/>
          <p:cNvSpPr/>
          <p:nvPr/>
        </p:nvSpPr>
        <p:spPr>
          <a:xfrm>
            <a:off x="503280" y="1065240"/>
            <a:ext cx="813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4789440" y="419040"/>
            <a:ext cx="38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Experimentelle Physik V</a:t>
            </a: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 /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Fakultät Physi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Num" idx="6"/>
          </p:nvPr>
        </p:nvSpPr>
        <p:spPr>
          <a:xfrm>
            <a:off x="7959240" y="6324480"/>
            <a:ext cx="1573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492E-2232-4977-A862-B3BA406472E3}" type="slidenum">
              <a: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617400" y="6475320"/>
            <a:ext cx="46879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Wolfgang Rhode | Michael Gilde Dortmund | 3.2.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kkura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body"/>
          </p:nvPr>
        </p:nvSpPr>
        <p:spPr>
          <a:xfrm>
            <a:off x="471240" y="2133360"/>
            <a:ext cx="812772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1" marL="731880" indent="-28584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2" marL="11318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3" marL="15890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4" marL="20462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5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6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1" descr=""/>
          <p:cNvPicPr/>
          <p:nvPr/>
        </p:nvPicPr>
        <p:blipFill>
          <a:blip r:embed="rId2"/>
          <a:stretch/>
        </p:blipFill>
        <p:spPr>
          <a:xfrm>
            <a:off x="468360" y="334800"/>
            <a:ext cx="3024000" cy="549360"/>
          </a:xfrm>
          <a:prstGeom prst="rect">
            <a:avLst/>
          </a:prstGeom>
          <a:ln w="0">
            <a:noFill/>
          </a:ln>
        </p:spPr>
      </p:pic>
      <p:sp>
        <p:nvSpPr>
          <p:cNvPr id="292" name="Line 2"/>
          <p:cNvSpPr/>
          <p:nvPr/>
        </p:nvSpPr>
        <p:spPr>
          <a:xfrm>
            <a:off x="503280" y="1065240"/>
            <a:ext cx="813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4789440" y="419040"/>
            <a:ext cx="38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Experimentelle Physik V</a:t>
            </a: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 /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Fakultät Physi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Num" idx="7"/>
          </p:nvPr>
        </p:nvSpPr>
        <p:spPr>
          <a:xfrm>
            <a:off x="7959240" y="6324480"/>
            <a:ext cx="1573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B961-953F-476A-9F86-B14DDBDD3B5F}" type="slidenum">
              <a: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617400" y="6475320"/>
            <a:ext cx="46879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Wolfgang Rhode | Michael Gilde Dortmund | 3.2.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kkura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body"/>
          </p:nvPr>
        </p:nvSpPr>
        <p:spPr>
          <a:xfrm>
            <a:off x="471240" y="2133360"/>
            <a:ext cx="812772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1" marL="731880" indent="-28584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2" marL="11318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3" marL="15890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4" marL="20462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5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6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1" descr=""/>
          <p:cNvPicPr/>
          <p:nvPr/>
        </p:nvPicPr>
        <p:blipFill>
          <a:blip r:embed="rId2"/>
          <a:stretch/>
        </p:blipFill>
        <p:spPr>
          <a:xfrm>
            <a:off x="468360" y="334800"/>
            <a:ext cx="3024000" cy="549360"/>
          </a:xfrm>
          <a:prstGeom prst="rect">
            <a:avLst/>
          </a:prstGeom>
          <a:ln w="0">
            <a:noFill/>
          </a:ln>
        </p:spPr>
      </p:pic>
      <p:sp>
        <p:nvSpPr>
          <p:cNvPr id="335" name="Line 2"/>
          <p:cNvSpPr/>
          <p:nvPr/>
        </p:nvSpPr>
        <p:spPr>
          <a:xfrm>
            <a:off x="503280" y="1065240"/>
            <a:ext cx="813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4789440" y="419040"/>
            <a:ext cx="38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Experimentelle Physik V</a:t>
            </a: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 /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kkurat Light Office Regular"/>
                <a:ea typeface="Akkurat Light Office Regular"/>
              </a:rPr>
              <a:t>Fakultät Physi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Num" idx="8"/>
          </p:nvPr>
        </p:nvSpPr>
        <p:spPr>
          <a:xfrm>
            <a:off x="7959240" y="6324480"/>
            <a:ext cx="1573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B135-6246-4A60-9C90-7023747896D5}" type="slidenum">
              <a:rPr b="0" lang="en-US" sz="1000" spc="-1" strike="noStrike">
                <a:solidFill>
                  <a:srgbClr val="83b73d"/>
                </a:solidFill>
                <a:latin typeface="Akkurat-Light"/>
                <a:ea typeface="Akkurat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617400" y="6475320"/>
            <a:ext cx="46879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Wolfgang Rhode | Michael Gilde Dortmund | 3.2.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66200" y="985320"/>
            <a:ext cx="8132760" cy="114804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kkurat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body"/>
          </p:nvPr>
        </p:nvSpPr>
        <p:spPr>
          <a:xfrm>
            <a:off x="471240" y="2133360"/>
            <a:ext cx="812772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1" marL="731880" indent="-28584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2" marL="11318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3" marL="15890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4" marL="2046240" indent="-228600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5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6" marL="204624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Light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1" descr=""/>
          <p:cNvPicPr/>
          <p:nvPr/>
        </p:nvPicPr>
        <p:blipFill>
          <a:blip r:embed="rId1"/>
          <a:stretch/>
        </p:blipFill>
        <p:spPr>
          <a:xfrm>
            <a:off x="5702400" y="4276800"/>
            <a:ext cx="3213000" cy="2381040"/>
          </a:xfrm>
          <a:prstGeom prst="rect">
            <a:avLst/>
          </a:prstGeom>
          <a:ln w="0">
            <a:noFill/>
          </a:ln>
        </p:spPr>
      </p:pic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1320" y="213840"/>
            <a:ext cx="8127720" cy="16225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Technologie des  </a:t>
            </a:r>
            <a:r>
              <a:rPr b="1" lang="en-US" sz="2600" spc="-1" strike="noStrike">
                <a:solidFill>
                  <a:srgbClr val="558e28"/>
                </a:solidFill>
                <a:latin typeface="Akkurat Office Bold"/>
                <a:ea typeface="Akkurat Office Bold"/>
              </a:rPr>
              <a:t>FACT</a:t>
            </a:r>
            <a:r>
              <a:rPr b="1" lang="en-US" sz="26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kkurat Office Bold"/>
                <a:ea typeface="ヒラギノ角ゴ ProN W6"/>
              </a:rPr>
              <a:t>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= </a:t>
            </a:r>
            <a:r>
              <a:rPr b="1" lang="en-US" sz="2600" spc="-1" strike="noStrike">
                <a:solidFill>
                  <a:srgbClr val="558e28"/>
                </a:solidFill>
                <a:latin typeface="Akkurat Office Bold"/>
                <a:ea typeface="Akkurat Office Bold"/>
              </a:rPr>
              <a:t>F</a:t>
            </a:r>
            <a:r>
              <a:rPr b="1" lang="en-US" sz="26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irst G-</a:t>
            </a:r>
            <a:r>
              <a:rPr b="1" lang="en-US" sz="2600" spc="-1" strike="noStrike">
                <a:solidFill>
                  <a:srgbClr val="558e28"/>
                </a:solidFill>
                <a:latin typeface="Akkurat Office Bold"/>
                <a:ea typeface="Akkurat Office Bold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PD </a:t>
            </a:r>
            <a:r>
              <a:rPr b="1" lang="en-US" sz="2600" spc="-1" strike="noStrike">
                <a:solidFill>
                  <a:srgbClr val="558e28"/>
                </a:solidFill>
                <a:latin typeface="Akkurat Office Bold"/>
                <a:ea typeface="Akkurat Office Bold"/>
              </a:rPr>
              <a:t>C</a:t>
            </a:r>
            <a:r>
              <a:rPr b="1" lang="en-US" sz="26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herenkov</a:t>
            </a:r>
            <a:r>
              <a:rPr b="1" lang="en-US" sz="2600" spc="-1" strike="noStrike">
                <a:solidFill>
                  <a:srgbClr val="558e28"/>
                </a:solidFill>
                <a:latin typeface="Akkurat Office Bold"/>
                <a:ea typeface="Akkurat Office Bold"/>
              </a:rPr>
              <a:t> T</a:t>
            </a:r>
            <a:r>
              <a:rPr b="1" lang="en-US" sz="26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elescope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für die   TeV Gamma Astronomie</a:t>
            </a:r>
            <a:br>
              <a:rPr sz="3000"/>
            </a:br>
            <a:endParaRPr b="0" lang="en-US" sz="26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86840" y="2057040"/>
            <a:ext cx="533412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 fontScale="98000"/>
          </a:bodyPr>
          <a:p>
            <a:pPr marL="374760" indent="-3358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 u="sng">
                <a:solidFill>
                  <a:srgbClr val="000000"/>
                </a:solidFill>
                <a:uFillTx/>
                <a:latin typeface="Akkurat Office Bold"/>
                <a:ea typeface="Akkurat Office Bold"/>
              </a:rPr>
              <a:t>Ziel:</a:t>
            </a:r>
            <a:endParaRPr b="0" lang="en-US" sz="1900" spc="-1" strike="noStrike">
              <a:solidFill>
                <a:srgbClr val="000000"/>
              </a:solidFill>
              <a:latin typeface="Akkurat-Light"/>
            </a:endParaRPr>
          </a:p>
          <a:p>
            <a:pPr lvl="1" marL="766800" indent="-28008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a40800"/>
                </a:solidFill>
                <a:latin typeface="Akkurat Office Bold"/>
                <a:ea typeface="Akkurat Office Bold"/>
              </a:rPr>
              <a:t>Konstruktion und Langzeit-Betrieb der ersten G-APD-Kamera !</a:t>
            </a:r>
            <a:endParaRPr b="0" lang="en-US" sz="1900" spc="-1" strike="noStrike">
              <a:solidFill>
                <a:srgbClr val="000000"/>
              </a:solidFill>
              <a:latin typeface="Akkurat-Light"/>
            </a:endParaRPr>
          </a:p>
          <a:p>
            <a:pPr lvl="1" marL="766800" indent="-28008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Crab</a:t>
            </a:r>
            <a:r>
              <a:rPr b="0" lang="de-DE" sz="19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-Beobachtung</a:t>
            </a:r>
            <a:r>
              <a:rPr b="0" lang="de-DE" sz="19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: kommende Saison</a:t>
            </a:r>
            <a:endParaRPr b="0" lang="en-US" sz="1900" spc="-1" strike="noStrike">
              <a:solidFill>
                <a:srgbClr val="000000"/>
              </a:solidFill>
              <a:latin typeface="Akkurat-Light"/>
            </a:endParaRPr>
          </a:p>
          <a:p>
            <a:pPr lvl="1" marL="766800" indent="-28008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Klärung, ob die G-APD Technologie für Cherenkov Teleskope grundsätzlich geeignet ist (</a:t>
            </a:r>
            <a:r>
              <a:rPr b="1" lang="de-DE" sz="19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CTA, AGIS, MAGIC</a:t>
            </a:r>
            <a:r>
              <a:rPr b="0" lang="de-DE" sz="19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, ...</a:t>
            </a:r>
            <a:r>
              <a:rPr b="0" lang="de-DE" sz="19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) </a:t>
            </a:r>
            <a:endParaRPr b="0" lang="en-US" sz="1900" spc="-1" strike="noStrike">
              <a:solidFill>
                <a:srgbClr val="000000"/>
              </a:solidFill>
              <a:latin typeface="Akkurat-Light"/>
            </a:endParaRPr>
          </a:p>
          <a:p>
            <a:pPr lvl="1" marL="766800" indent="-28008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Betrieb im </a:t>
            </a:r>
            <a:r>
              <a:rPr b="0" lang="de-DE" sz="1900" spc="-1" strike="noStrike">
                <a:solidFill>
                  <a:srgbClr val="000000"/>
                </a:solidFill>
                <a:latin typeface="Akkurat-Bold"/>
                <a:ea typeface="Akkurat-Bold"/>
              </a:rPr>
              <a:t>DWARF</a:t>
            </a:r>
            <a:r>
              <a:rPr b="0" lang="de-DE" sz="19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-Physik-Programm ! </a:t>
            </a:r>
            <a:endParaRPr b="0" lang="en-US" sz="1900" spc="-1" strike="noStrike">
              <a:solidFill>
                <a:srgbClr val="000000"/>
              </a:solidFill>
              <a:latin typeface="Akkurat-Light"/>
            </a:endParaRPr>
          </a:p>
          <a:p>
            <a:pPr marL="374760" indent="-3358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 u="sng">
                <a:solidFill>
                  <a:srgbClr val="000000"/>
                </a:solidFill>
                <a:uFillTx/>
                <a:latin typeface="Akkurat Office Bold"/>
                <a:ea typeface="Akkurat Office Bold"/>
              </a:rPr>
              <a:t>Vorhanden:</a:t>
            </a:r>
            <a:endParaRPr b="0" lang="en-US" sz="1900" spc="-1" strike="noStrike">
              <a:solidFill>
                <a:srgbClr val="000000"/>
              </a:solidFill>
              <a:latin typeface="Akkurat-Light"/>
            </a:endParaRPr>
          </a:p>
          <a:p>
            <a:pPr lvl="1" marL="766800" indent="-28008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Teleskop-Mount (La Palma):</a:t>
            </a:r>
            <a:endParaRPr b="0" lang="en-US" sz="1900" spc="-1" strike="noStrike">
              <a:solidFill>
                <a:srgbClr val="000000"/>
              </a:solidFill>
              <a:latin typeface="Akkurat-Light"/>
            </a:endParaRPr>
          </a:p>
          <a:p>
            <a:pPr lvl="1" marL="766800" indent="-28008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9 m</a:t>
            </a:r>
            <a:r>
              <a:rPr b="0" lang="de-DE" sz="1900" spc="-1" strike="noStrike" baseline="32000">
                <a:solidFill>
                  <a:srgbClr val="000000"/>
                </a:solidFill>
                <a:latin typeface="Akkurat Office Regular"/>
                <a:ea typeface="Akkurat Office Regular"/>
              </a:rPr>
              <a:t>2</a:t>
            </a:r>
            <a:r>
              <a:rPr b="0" lang="de-DE" sz="19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 Spiegel hoher Reflektivität </a:t>
            </a:r>
            <a:endParaRPr b="0" lang="en-US" sz="1900" spc="-1" strike="noStrike">
              <a:solidFill>
                <a:srgbClr val="000000"/>
              </a:solidFill>
              <a:latin typeface="Akkurat-Light"/>
            </a:endParaRPr>
          </a:p>
          <a:p>
            <a:pPr lvl="1" marL="766800" indent="-28008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Mikrocontroller basiertes Drivesystem </a:t>
            </a:r>
            <a:endParaRPr b="0" lang="en-US" sz="1900" spc="-1" strike="noStrike">
              <a:solidFill>
                <a:srgbClr val="000000"/>
              </a:solidFill>
              <a:latin typeface="Akkurat-Light"/>
            </a:endParaRPr>
          </a:p>
          <a:p>
            <a:pPr lvl="1" marL="766800" indent="-28008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Erfahrung mit  36 Pixel-Testkamera M0</a:t>
            </a:r>
            <a:endParaRPr b="0" lang="en-US" sz="1900" spc="-1" strike="noStrike">
              <a:solidFill>
                <a:srgbClr val="000000"/>
              </a:solidFill>
              <a:latin typeface="Akkurat-Light"/>
            </a:endParaRPr>
          </a:p>
        </p:txBody>
      </p:sp>
      <p:sp>
        <p:nvSpPr>
          <p:cNvPr id="635" name="Rectangle 4"/>
          <p:cNvSpPr/>
          <p:nvPr/>
        </p:nvSpPr>
        <p:spPr>
          <a:xfrm>
            <a:off x="237960" y="1571760"/>
            <a:ext cx="5861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691e"/>
                </a:solidFill>
                <a:latin typeface="Akkurat-Bold"/>
                <a:ea typeface="Akkurat-Bold"/>
              </a:rPr>
              <a:t>TU Dortmund, EPF Lausanne, U Würzburg, ETH Zür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2"/>
          <a:stretch/>
        </p:blipFill>
        <p:spPr>
          <a:xfrm>
            <a:off x="6107040" y="1679400"/>
            <a:ext cx="2846520" cy="259092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6"/>
          <p:cNvSpPr/>
          <p:nvPr/>
        </p:nvSpPr>
        <p:spPr>
          <a:xfrm>
            <a:off x="6350040" y="1803240"/>
            <a:ext cx="156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hotomon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1" descr=""/>
          <p:cNvPicPr/>
          <p:nvPr/>
        </p:nvPicPr>
        <p:blipFill>
          <a:blip r:embed="rId1"/>
          <a:stretch/>
        </p:blipFill>
        <p:spPr>
          <a:xfrm>
            <a:off x="420840" y="714240"/>
            <a:ext cx="3297240" cy="197352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4360" y="-4680"/>
            <a:ext cx="8132760" cy="114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kkurat-Bold"/>
                <a:ea typeface="Akkurat-Bold"/>
              </a:rPr>
              <a:t>Photodetektion mit Geiger Mode-APDs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kkurat-Bold"/>
                <a:ea typeface="Akkurat-Bold"/>
              </a:rPr>
              <a:t>und 2 GHz DRS-Ringsampler</a:t>
            </a: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12400" y="2717280"/>
            <a:ext cx="3924360" cy="40640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Vorteile:</a:t>
            </a:r>
            <a:endParaRPr b="0" lang="en-US" sz="1500" spc="-1" strike="noStrike">
              <a:solidFill>
                <a:srgbClr val="000000"/>
              </a:solidFill>
              <a:latin typeface="Akkurat-Light"/>
            </a:endParaRPr>
          </a:p>
          <a:p>
            <a:pPr lvl="1" marL="782640" indent="-28584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Hohe PDE ( teilweise  &gt; PMT-PDE )</a:t>
            </a:r>
            <a:endParaRPr b="0" lang="en-US" sz="1300" spc="-1" strike="noStrike">
              <a:solidFill>
                <a:srgbClr val="000000"/>
              </a:solidFill>
              <a:latin typeface="Akkurat-Light"/>
            </a:endParaRPr>
          </a:p>
          <a:p>
            <a:pPr lvl="1" marL="782640" indent="-28584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Verstärkung: 10</a:t>
            </a:r>
            <a:r>
              <a:rPr b="0" lang="de-DE" sz="1300" spc="-1" strike="noStrike" baseline="32000">
                <a:solidFill>
                  <a:srgbClr val="000000"/>
                </a:solidFill>
                <a:latin typeface="Akkurat Office Regular"/>
                <a:ea typeface="Akkurat Office Regular"/>
              </a:rPr>
              <a:t>5</a:t>
            </a:r>
            <a:r>
              <a:rPr b="0" lang="de-DE" sz="13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-10</a:t>
            </a:r>
            <a:r>
              <a:rPr b="0" lang="de-DE" sz="1300" spc="-1" strike="noStrike" baseline="32000">
                <a:solidFill>
                  <a:srgbClr val="000000"/>
                </a:solidFill>
                <a:latin typeface="Akkurat Office Regular"/>
                <a:ea typeface="Akkurat Office Regular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Akkurat-Light"/>
            </a:endParaRPr>
          </a:p>
          <a:p>
            <a:pPr lvl="1" marL="782640" indent="-28584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Einzelphotonenauflösung </a:t>
            </a:r>
            <a:endParaRPr b="0" lang="en-US" sz="1300" spc="-1" strike="noStrike">
              <a:solidFill>
                <a:srgbClr val="000000"/>
              </a:solidFill>
              <a:latin typeface="Akkurat-Light"/>
            </a:endParaRPr>
          </a:p>
          <a:p>
            <a:pPr lvl="1" marL="782640" indent="-28584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vernachlässigbarer Zeit-Jitter </a:t>
            </a:r>
            <a:endParaRPr b="0" lang="en-US" sz="1300" spc="-1" strike="noStrike">
              <a:solidFill>
                <a:srgbClr val="000000"/>
              </a:solidFill>
              <a:latin typeface="Akkurat-Light"/>
            </a:endParaRPr>
          </a:p>
          <a:p>
            <a:pPr lvl="1" marL="782640" indent="-28584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Niedrige Bias-Spannung ~ 70V</a:t>
            </a:r>
            <a:endParaRPr b="0" lang="en-US" sz="1300" spc="-1" strike="noStrike">
              <a:solidFill>
                <a:srgbClr val="000000"/>
              </a:solidFill>
              <a:latin typeface="Akkurat-Light"/>
            </a:endParaRPr>
          </a:p>
          <a:p>
            <a:pPr lvl="1" marL="782640" indent="-28584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Tageslicht-unempfindlich</a:t>
            </a:r>
            <a:endParaRPr b="0" lang="en-US" sz="1300" spc="-1" strike="noStrike">
              <a:solidFill>
                <a:srgbClr val="000000"/>
              </a:solidFill>
              <a:latin typeface="Akkurat-Light"/>
            </a:endParaRPr>
          </a:p>
          <a:p>
            <a:pPr lvl="1" marL="782640" indent="-28584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Unempfindlich gegen Magnetfelder</a:t>
            </a:r>
            <a:endParaRPr b="0" lang="en-US" sz="1300" spc="-1" strike="noStrike">
              <a:solidFill>
                <a:srgbClr val="000000"/>
              </a:solidFill>
              <a:latin typeface="Akkurat-Light"/>
            </a:endParaRPr>
          </a:p>
          <a:p>
            <a:pPr lvl="1" marL="782640" indent="-28584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Sehr kompakt</a:t>
            </a:r>
            <a:endParaRPr b="0" lang="en-US" sz="1300" spc="-1" strike="noStrike">
              <a:solidFill>
                <a:srgbClr val="000000"/>
              </a:solidFill>
              <a:latin typeface="Akkurat-Light"/>
            </a:endParaRPr>
          </a:p>
          <a:p>
            <a:pPr lvl="1" marL="782640" indent="-28584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Sinkende Kosten</a:t>
            </a:r>
            <a:endParaRPr b="0" lang="en-US" sz="1300" spc="-1" strike="noStrike">
              <a:solidFill>
                <a:srgbClr val="000000"/>
              </a:solidFill>
              <a:latin typeface="Akkurat-Light"/>
            </a:endParaRPr>
          </a:p>
          <a:p>
            <a:pPr lvl="1" marL="782640" indent="-28584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Unabhängig von PM-Produktion</a:t>
            </a:r>
            <a:endParaRPr b="0" lang="en-US" sz="1300" spc="-1" strike="noStrike">
              <a:solidFill>
                <a:srgbClr val="000000"/>
              </a:solidFill>
              <a:latin typeface="Akkurat-Light"/>
            </a:endParaRPr>
          </a:p>
          <a:p>
            <a:pPr marL="3826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Nachteile:</a:t>
            </a:r>
            <a:endParaRPr b="0" lang="en-US" sz="1500" spc="-1" strike="noStrike">
              <a:solidFill>
                <a:srgbClr val="000000"/>
              </a:solidFill>
              <a:latin typeface="Akkurat-Light"/>
            </a:endParaRPr>
          </a:p>
          <a:p>
            <a:pPr lvl="1" marL="782640" indent="-28584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Verstärkung ist Temperatur-abhängig</a:t>
            </a:r>
            <a:endParaRPr b="0" lang="en-US" sz="1300" spc="-1" strike="noStrike">
              <a:solidFill>
                <a:srgbClr val="000000"/>
              </a:solidFill>
              <a:latin typeface="Akkurat-Light"/>
            </a:endParaRPr>
          </a:p>
          <a:p>
            <a:pPr lvl="1" marL="782640" indent="-28584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Optisches Übersprechen</a:t>
            </a:r>
            <a:endParaRPr b="0" lang="en-US" sz="1300" spc="-1" strike="noStrike">
              <a:solidFill>
                <a:srgbClr val="000000"/>
              </a:solidFill>
              <a:latin typeface="Akkurat-Light"/>
            </a:endParaRPr>
          </a:p>
          <a:p>
            <a:pPr lvl="1" marL="782640" indent="-28584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kkurat Office Regular"/>
                <a:ea typeface="Akkurat Office Regular"/>
              </a:rPr>
              <a:t>keine Erfahrungen in IACTs</a:t>
            </a:r>
            <a:endParaRPr b="0" lang="en-US" sz="1300" spc="-1" strike="noStrike">
              <a:solidFill>
                <a:srgbClr val="000000"/>
              </a:solidFill>
              <a:latin typeface="Akkurat-Light"/>
            </a:endParaRPr>
          </a:p>
        </p:txBody>
      </p:sp>
      <p:pic>
        <p:nvPicPr>
          <p:cNvPr id="641" name="Picture 4" descr=""/>
          <p:cNvPicPr/>
          <p:nvPr/>
        </p:nvPicPr>
        <p:blipFill>
          <a:blip r:embed="rId2"/>
          <a:stretch/>
        </p:blipFill>
        <p:spPr>
          <a:xfrm>
            <a:off x="4057560" y="3963960"/>
            <a:ext cx="5232600" cy="29671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5" descr=""/>
          <p:cNvPicPr/>
          <p:nvPr/>
        </p:nvPicPr>
        <p:blipFill>
          <a:blip r:embed="rId3"/>
          <a:stretch/>
        </p:blipFill>
        <p:spPr>
          <a:xfrm>
            <a:off x="4761000" y="1079640"/>
            <a:ext cx="4076640" cy="28080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6" descr=""/>
          <p:cNvPicPr/>
          <p:nvPr/>
        </p:nvPicPr>
        <p:blipFill>
          <a:blip r:embed="rId4"/>
          <a:stretch/>
        </p:blipFill>
        <p:spPr>
          <a:xfrm>
            <a:off x="5881680" y="5692680"/>
            <a:ext cx="1587600" cy="103032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7"/>
          <p:cNvSpPr/>
          <p:nvPr/>
        </p:nvSpPr>
        <p:spPr>
          <a:xfrm>
            <a:off x="6920280" y="4241880"/>
            <a:ext cx="55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2531160" y="1244520"/>
            <a:ext cx="772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0b00"/>
                </a:solidFill>
                <a:latin typeface="Akkurat-Bold"/>
                <a:ea typeface="Akkurat-Bold"/>
              </a:rPr>
              <a:t>G-A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1" descr=""/>
          <p:cNvPicPr/>
          <p:nvPr/>
        </p:nvPicPr>
        <p:blipFill>
          <a:blip r:embed="rId1"/>
          <a:stretch/>
        </p:blipFill>
        <p:spPr>
          <a:xfrm>
            <a:off x="7304040" y="-19080"/>
            <a:ext cx="2230560" cy="3429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2" descr=""/>
          <p:cNvPicPr/>
          <p:nvPr/>
        </p:nvPicPr>
        <p:blipFill>
          <a:blip r:embed="rId2"/>
          <a:stretch/>
        </p:blipFill>
        <p:spPr>
          <a:xfrm>
            <a:off x="5603760" y="3114720"/>
            <a:ext cx="3510000" cy="35686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3" descr=""/>
          <p:cNvPicPr/>
          <p:nvPr/>
        </p:nvPicPr>
        <p:blipFill>
          <a:blip r:embed="rId3"/>
          <a:stretch/>
        </p:blipFill>
        <p:spPr>
          <a:xfrm>
            <a:off x="160200" y="4525920"/>
            <a:ext cx="5334120" cy="1886040"/>
          </a:xfrm>
          <a:prstGeom prst="rect">
            <a:avLst/>
          </a:prstGeom>
          <a:ln w="0">
            <a:noFill/>
          </a:ln>
        </p:spPr>
      </p:pic>
      <p:sp>
        <p:nvSpPr>
          <p:cNvPr id="649" name="Rectangle 4"/>
          <p:cNvSpPr/>
          <p:nvPr/>
        </p:nvSpPr>
        <p:spPr>
          <a:xfrm>
            <a:off x="7557120" y="2679840"/>
            <a:ext cx="1525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eb00"/>
                </a:solidFill>
                <a:latin typeface="Arial"/>
                <a:ea typeface="Arial"/>
              </a:rPr>
              <a:t>80 cm Spie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5"/>
          <p:cNvSpPr/>
          <p:nvPr/>
        </p:nvSpPr>
        <p:spPr>
          <a:xfrm>
            <a:off x="8723520" y="622440"/>
            <a:ext cx="39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9a00"/>
                </a:solidFill>
                <a:latin typeface="Arial"/>
                <a:ea typeface="Arial"/>
              </a:rPr>
              <a:t>M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6"/>
          <p:cNvSpPr/>
          <p:nvPr/>
        </p:nvSpPr>
        <p:spPr>
          <a:xfrm>
            <a:off x="104400" y="4071960"/>
            <a:ext cx="5552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rial"/>
                <a:ea typeface="Arial"/>
              </a:rPr>
              <a:t>Erste von der GAPD-Kamera M0  selbst getriggerte Luftschauer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7"/>
          <p:cNvSpPr/>
          <p:nvPr/>
        </p:nvSpPr>
        <p:spPr>
          <a:xfrm>
            <a:off x="7772400" y="203040"/>
            <a:ext cx="952560" cy="1295640"/>
          </a:xfrm>
          <a:prstGeom prst="rect">
            <a:avLst/>
          </a:prstGeom>
          <a:noFill/>
          <a:ln w="38160">
            <a:solidFill>
              <a:srgbClr val="fd9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8" descr=""/>
          <p:cNvPicPr/>
          <p:nvPr/>
        </p:nvPicPr>
        <p:blipFill>
          <a:blip r:embed="rId4"/>
          <a:stretch/>
        </p:blipFill>
        <p:spPr>
          <a:xfrm>
            <a:off x="3359160" y="146160"/>
            <a:ext cx="3922560" cy="2933640"/>
          </a:xfrm>
          <a:prstGeom prst="rect">
            <a:avLst/>
          </a:prstGeom>
          <a:ln w="0">
            <a:noFill/>
          </a:ln>
        </p:spPr>
      </p:pic>
      <p:sp>
        <p:nvSpPr>
          <p:cNvPr id="654" name="AutoShape 9"/>
          <p:cNvSpPr/>
          <p:nvPr/>
        </p:nvSpPr>
        <p:spPr>
          <a:xfrm>
            <a:off x="2882880" y="-685800"/>
            <a:ext cx="4356000" cy="4203720"/>
          </a:xfrm>
          <a:custGeom>
            <a:avLst/>
            <a:gdLst>
              <a:gd name="textAreaLeft" fmla="*/ 0 w 4356000"/>
              <a:gd name="textAreaRight" fmla="*/ 4356360 w 4356000"/>
              <a:gd name="textAreaTop" fmla="*/ 0 h 4203720"/>
              <a:gd name="textAreaBottom" fmla="*/ 4204080 h 4203720"/>
            </a:gdLst>
            <a:ahLst/>
            <a:rect l="textAreaLeft" t="textAreaTop" r="textAreaRight" b="textAreaBottom"/>
            <a:pathLst>
              <a:path w="19679" h="19679">
                <a:moveTo>
                  <a:pt x="16796" y="2882"/>
                </a:moveTo>
                <a:cubicBezTo>
                  <a:pt x="20639" y="6724"/>
                  <a:pt x="20639" y="12954"/>
                  <a:pt x="16796" y="16796"/>
                </a:cubicBezTo>
                <a:cubicBezTo>
                  <a:pt x="12954" y="20639"/>
                  <a:pt x="6724" y="20639"/>
                  <a:pt x="2881" y="16796"/>
                </a:cubicBezTo>
                <a:cubicBezTo>
                  <a:pt x="-961" y="12954"/>
                  <a:pt x="-961" y="6724"/>
                  <a:pt x="2881" y="2882"/>
                </a:cubicBezTo>
                <a:cubicBezTo>
                  <a:pt x="6724" y="-961"/>
                  <a:pt x="12954" y="-961"/>
                  <a:pt x="16796" y="2882"/>
                </a:cubicBezTo>
              </a:path>
            </a:pathLst>
          </a:custGeom>
          <a:noFill/>
          <a:ln w="63360">
            <a:solidFill>
              <a:srgbClr val="fd9a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10" descr=""/>
          <p:cNvPicPr/>
          <p:nvPr/>
        </p:nvPicPr>
        <p:blipFill>
          <a:blip r:embed="rId5"/>
          <a:stretch/>
        </p:blipFill>
        <p:spPr>
          <a:xfrm>
            <a:off x="39600" y="1465200"/>
            <a:ext cx="3589560" cy="2579760"/>
          </a:xfrm>
          <a:prstGeom prst="rect">
            <a:avLst/>
          </a:prstGeom>
          <a:ln w="0">
            <a:noFill/>
          </a:ln>
        </p:spPr>
      </p:pic>
      <p:sp>
        <p:nvSpPr>
          <p:cNvPr id="656" name="AutoShape 11"/>
          <p:cNvSpPr/>
          <p:nvPr/>
        </p:nvSpPr>
        <p:spPr>
          <a:xfrm>
            <a:off x="7035840" y="266760"/>
            <a:ext cx="723960" cy="253800"/>
          </a:xfrm>
          <a:prstGeom prst="rightArrow">
            <a:avLst>
              <a:gd name="adj1" fmla="val 28898"/>
              <a:gd name="adj2" fmla="val 142135"/>
            </a:avLst>
          </a:prstGeom>
          <a:solidFill>
            <a:srgbClr val="fd9a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7160" y="301320"/>
            <a:ext cx="509292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939"/>
                </a:solidFill>
                <a:latin typeface="Akkurat-Bold"/>
                <a:ea typeface="Akkurat-Bold"/>
              </a:rPr>
              <a:t>2009: Erfolgreicher Test </a:t>
            </a:r>
            <a:br>
              <a:rPr sz="2200"/>
            </a:br>
            <a:r>
              <a:rPr b="0" lang="en-US" sz="2200" spc="-1" strike="noStrike">
                <a:solidFill>
                  <a:srgbClr val="002939"/>
                </a:solidFill>
                <a:latin typeface="Akkurat-Bold"/>
                <a:ea typeface="Akkurat-Bold"/>
              </a:rPr>
              <a:t>der 36-Pixel (144 G-APD)</a:t>
            </a:r>
            <a:br>
              <a:rPr sz="2200"/>
            </a:br>
            <a:r>
              <a:rPr b="0" lang="en-US" sz="2200" spc="-1" strike="noStrike">
                <a:solidFill>
                  <a:srgbClr val="002939"/>
                </a:solidFill>
                <a:latin typeface="Akkurat-Bold"/>
                <a:ea typeface="Akkurat-Bold"/>
              </a:rPr>
              <a:t>Testkamera M0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658" name="AutoShape 13"/>
          <p:cNvSpPr/>
          <p:nvPr/>
        </p:nvSpPr>
        <p:spPr>
          <a:xfrm rot="14045400">
            <a:off x="3380760" y="2669760"/>
            <a:ext cx="2921040" cy="291960"/>
          </a:xfrm>
          <a:prstGeom prst="rightArrow">
            <a:avLst>
              <a:gd name="adj1" fmla="val 32000"/>
              <a:gd name="adj2" fmla="val 191437"/>
            </a:avLst>
          </a:prstGeom>
          <a:solidFill>
            <a:srgbClr val="f3eb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4"/>
          <p:cNvSpPr/>
          <p:nvPr/>
        </p:nvSpPr>
        <p:spPr>
          <a:xfrm>
            <a:off x="152280" y="6426360"/>
            <a:ext cx="4889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Arial"/>
              </a:rPr>
              <a:t>Signal-Amplitude                            Signal-Tim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1" descr=""/>
          <p:cNvPicPr/>
          <p:nvPr/>
        </p:nvPicPr>
        <p:blipFill>
          <a:blip r:embed="rId1"/>
          <a:stretch/>
        </p:blipFill>
        <p:spPr>
          <a:xfrm>
            <a:off x="4933800" y="2523960"/>
            <a:ext cx="4173840" cy="428004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39840" y="453600"/>
            <a:ext cx="2984400" cy="1397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kkurat-Bold"/>
                <a:ea typeface="Akkurat-Bold"/>
              </a:rPr>
              <a:t>2010: 1440-Pixel G-APD-Kamera</a:t>
            </a:r>
            <a:r>
              <a:rPr b="0" lang="en-US" sz="2200" spc="-1" strike="noStrike">
                <a:solidFill>
                  <a:srgbClr val="000000"/>
                </a:solidFill>
                <a:latin typeface="Akkurat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pic>
        <p:nvPicPr>
          <p:cNvPr id="662" name="Picture 3" descr=""/>
          <p:cNvPicPr/>
          <p:nvPr/>
        </p:nvPicPr>
        <p:blipFill>
          <a:blip r:embed="rId2"/>
          <a:stretch/>
        </p:blipFill>
        <p:spPr>
          <a:xfrm>
            <a:off x="88920" y="2755800"/>
            <a:ext cx="5156280" cy="359424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4" descr=""/>
          <p:cNvPicPr/>
          <p:nvPr/>
        </p:nvPicPr>
        <p:blipFill>
          <a:blip r:embed="rId3"/>
          <a:stretch/>
        </p:blipFill>
        <p:spPr>
          <a:xfrm>
            <a:off x="3187800" y="68400"/>
            <a:ext cx="6006960" cy="2806560"/>
          </a:xfrm>
          <a:prstGeom prst="rect">
            <a:avLst/>
          </a:prstGeom>
          <a:ln w="0">
            <a:noFill/>
          </a:ln>
        </p:spPr>
      </p:pic>
      <p:sp>
        <p:nvSpPr>
          <p:cNvPr id="664" name="Rectangle 5"/>
          <p:cNvSpPr/>
          <p:nvPr/>
        </p:nvSpPr>
        <p:spPr>
          <a:xfrm>
            <a:off x="259200" y="1486080"/>
            <a:ext cx="2801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kkurat-Bold"/>
                <a:ea typeface="Akkurat-Bold"/>
              </a:rPr>
              <a:t>DAQ in Kamera integri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6869160" y="5092560"/>
            <a:ext cx="70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8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7"/>
          <p:cNvSpPr/>
          <p:nvPr/>
        </p:nvSpPr>
        <p:spPr>
          <a:xfrm flipV="1">
            <a:off x="5576040" y="3223800"/>
            <a:ext cx="2900520" cy="28400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8"/>
          <p:cNvSpPr/>
          <p:nvPr/>
        </p:nvSpPr>
        <p:spPr>
          <a:xfrm>
            <a:off x="6364440" y="3048120"/>
            <a:ext cx="14997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0b00"/>
                </a:solidFill>
                <a:latin typeface="Akkurat-Bold"/>
                <a:ea typeface="Akkurat-Bold"/>
              </a:rPr>
              <a:t>Größe e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0b00"/>
                </a:solidFill>
                <a:latin typeface="Akkurat-Bold"/>
                <a:ea typeface="Akkurat-Bold"/>
              </a:rPr>
              <a:t>MAGIC Pi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90b00"/>
                </a:solidFill>
                <a:latin typeface="Akkurat-Bold"/>
                <a:ea typeface="Akkurat-Bold"/>
              </a:rPr>
              <a:t>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9"/>
          <p:cNvSpPr/>
          <p:nvPr/>
        </p:nvSpPr>
        <p:spPr>
          <a:xfrm flipH="1">
            <a:off x="5066640" y="4191120"/>
            <a:ext cx="1676520" cy="939600"/>
          </a:xfrm>
          <a:prstGeom prst="rightArrow">
            <a:avLst>
              <a:gd name="adj1" fmla="val 32000"/>
              <a:gd name="adj2" fmla="val 59476"/>
            </a:avLst>
          </a:prstGeom>
          <a:solidFill>
            <a:srgbClr val="fff95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0"/>
          <p:cNvSpPr/>
          <p:nvPr/>
        </p:nvSpPr>
        <p:spPr>
          <a:xfrm>
            <a:off x="5286240" y="4500720"/>
            <a:ext cx="1235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Lichtein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1"/>
          <p:cNvSpPr/>
          <p:nvPr/>
        </p:nvSpPr>
        <p:spPr>
          <a:xfrm>
            <a:off x="1905120" y="6210360"/>
            <a:ext cx="3225600" cy="355680"/>
          </a:xfrm>
          <a:prstGeom prst="rect">
            <a:avLst/>
          </a:prstGeom>
          <a:solidFill>
            <a:srgbClr val="b7b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tail structure of the cam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12"/>
          <p:cNvSpPr/>
          <p:nvPr/>
        </p:nvSpPr>
        <p:spPr>
          <a:xfrm>
            <a:off x="5842080" y="3289320"/>
            <a:ext cx="393480" cy="419040"/>
          </a:xfrm>
          <a:prstGeom prst="ellipse">
            <a:avLst/>
          </a:prstGeom>
          <a:noFill/>
          <a:ln w="38160">
            <a:solidFill>
              <a:srgbClr val="d90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13"/>
          <p:cNvSpPr/>
          <p:nvPr/>
        </p:nvSpPr>
        <p:spPr>
          <a:xfrm>
            <a:off x="6566040" y="5651640"/>
            <a:ext cx="279360" cy="291960"/>
          </a:xfrm>
          <a:prstGeom prst="ellipse">
            <a:avLst/>
          </a:prstGeom>
          <a:noFill/>
          <a:ln w="38160">
            <a:solidFill>
              <a:srgbClr val="002d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14"/>
          <p:cNvSpPr/>
          <p:nvPr/>
        </p:nvSpPr>
        <p:spPr>
          <a:xfrm>
            <a:off x="6911640" y="5473800"/>
            <a:ext cx="12866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d99"/>
                </a:solidFill>
                <a:latin typeface="Akkurat-Bold"/>
                <a:ea typeface="Akkurat-Bold"/>
              </a:rPr>
              <a:t>Größe ei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d99"/>
                </a:solidFill>
                <a:latin typeface="Akkurat-Bold"/>
                <a:ea typeface="Akkurat-Bold"/>
              </a:rPr>
              <a:t>CT3 Pix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d99"/>
                </a:solidFill>
                <a:latin typeface="Akkurat-Bold"/>
                <a:ea typeface="Akkurat-Bold"/>
              </a:rPr>
              <a:t>2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99680" y="428760"/>
            <a:ext cx="8132760" cy="11476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Zusammenfassung</a:t>
            </a:r>
            <a:endParaRPr b="0" lang="en-US" sz="2200" spc="-1" strike="noStrike">
              <a:solidFill>
                <a:srgbClr val="000000"/>
              </a:solidFill>
              <a:latin typeface="Akkura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99680" y="1785600"/>
            <a:ext cx="8132760" cy="4724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marL="3826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Die G-APD Technologie  ist eine technisch und finanziell ernstzunehmende Alternative zur Photomultiplier-Technologie.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marL="3826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Mit FACT ist das erste G-APD-Cherenkov-Teleskop im Aufbau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1" marL="782640" indent="-28584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Prototyp-Kamera M0 erfolgreich betrieben und getestet.</a:t>
            </a:r>
            <a:endParaRPr b="0" lang="en-US" sz="1600" spc="-1" strike="noStrike">
              <a:solidFill>
                <a:srgbClr val="000000"/>
              </a:solidFill>
              <a:latin typeface="Akkurat-Light"/>
            </a:endParaRPr>
          </a:p>
          <a:p>
            <a:pPr lvl="1" marL="782640" indent="-28584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Teleskop-Hardware vorhanden und zum Einbau bereit.</a:t>
            </a:r>
            <a:endParaRPr b="0" lang="en-US" sz="1600" spc="-1" strike="noStrike">
              <a:solidFill>
                <a:srgbClr val="000000"/>
              </a:solidFill>
              <a:latin typeface="Akkurat-Light"/>
            </a:endParaRPr>
          </a:p>
          <a:p>
            <a:pPr lvl="1" marL="782640" indent="-28584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Inbetriebnahme: Ende 2010</a:t>
            </a:r>
            <a:endParaRPr b="0" lang="en-US" sz="1600" spc="-1" strike="noStrike">
              <a:solidFill>
                <a:srgbClr val="000000"/>
              </a:solidFill>
              <a:latin typeface="Akkurat-Light"/>
            </a:endParaRPr>
          </a:p>
          <a:p>
            <a:pPr lvl="1" marL="78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kurat-Light"/>
            </a:endParaRPr>
          </a:p>
          <a:p>
            <a:pPr marL="3826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Ziel: </a:t>
            </a:r>
            <a:r>
              <a:rPr b="0" lang="de-DE" sz="1800" spc="-1" strike="noStrike">
                <a:solidFill>
                  <a:srgbClr val="a40800"/>
                </a:solidFill>
                <a:latin typeface="Akkurat Office Bold"/>
                <a:ea typeface="Akkurat Office Bold"/>
              </a:rPr>
              <a:t>Langzeitbetrieb der  Kamera </a:t>
            </a:r>
            <a:r>
              <a:rPr b="0" lang="de-DE" sz="18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im DWARF-Programm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1" marL="782640" indent="-28584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DWARF (Dedicated Worlwide AGN Research Facility)                                                        -&gt; Langzeitbeobachtung von AGN</a:t>
            </a:r>
            <a:endParaRPr b="0" lang="en-US" sz="1600" spc="-1" strike="noStrike">
              <a:solidFill>
                <a:srgbClr val="000000"/>
              </a:solidFill>
              <a:latin typeface="Akkurat-Light"/>
            </a:endParaRPr>
          </a:p>
          <a:p>
            <a:pPr marL="382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marL="382680" indent="-34308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Förderung:</a:t>
            </a:r>
            <a:endParaRPr b="0" lang="en-US" sz="1800" spc="-1" strike="noStrike">
              <a:solidFill>
                <a:srgbClr val="000000"/>
              </a:solidFill>
              <a:latin typeface="Akkurat-Light"/>
            </a:endParaRPr>
          </a:p>
          <a:p>
            <a:pPr lvl="1" marL="782640" indent="-285840">
              <a:lnSpc>
                <a:spcPct val="100000"/>
              </a:lnSpc>
              <a:spcBef>
                <a:spcPts val="4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 </a:t>
            </a:r>
            <a:r>
              <a:rPr b="0" lang="de-DE" sz="1500" spc="-1" strike="noStrike">
                <a:solidFill>
                  <a:srgbClr val="000000"/>
                </a:solidFill>
                <a:latin typeface="Akkurat Office Bold"/>
                <a:ea typeface="Akkurat Office Bold"/>
              </a:rPr>
              <a:t>TU Dortmund, Uni Würzburg, ETH Zürich, SNF, BMBF</a:t>
            </a:r>
            <a:endParaRPr b="0" lang="en-US" sz="1500" spc="-1" strike="noStrike">
              <a:solidFill>
                <a:srgbClr val="000000"/>
              </a:solidFill>
              <a:latin typeface="Akkurat-Ligh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olfgang Rhode</dc:creator>
  <dc:description/>
  <dc:language>en-US</dc:language>
  <cp:lastModifiedBy>Rhode</cp:lastModifiedBy>
  <dcterms:modified xsi:type="dcterms:W3CDTF">2010-02-23T12:21:13Z</dcterms:modified>
  <cp:revision>1</cp:revision>
  <dc:subject/>
  <dc:title>Folie 1</dc:title>
</cp:coreProperties>
</file>